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B82-59E2-4F5E-BE1F-98F892B8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F5D-38E4-4CF7-85E4-737510B8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F7D-EEEF-49B1-A8D7-15FCC70E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709-3A05-41D7-A732-DBEB37EF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995-9C58-4FCB-B208-2E30D27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DA7-79D8-424B-8DEA-75246B0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086-7EED-4612-9E87-3059D205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781-18E9-4125-B4B6-B5452C8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E40-1B3D-44E1-9F17-E0495EE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FF4-6F80-47FA-9A0B-B9CF8C26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0F7-9236-4DDF-ADE0-95FCD41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C21-A24F-442B-A5B4-FB6C83EE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D8FE-0806-4701-99C9-9808BFE3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cworld.com/businesscenter/article/150457/how_to_buy_a_minilaptop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iki.laptop.org/images/3/38/P1020377-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iki.laptop.org/images/a/a1/P1020089-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639040" cy="502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he Ed Tech Projec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hat started it 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44193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A Look at Size, Price and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c Ja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1447920"/>
            <a:ext cx="7162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Mini Laptop Comput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in Hai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862600" cy="5604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P M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, EVERYONE IS ON THE BANDWAGO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369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3781440" cy="193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2152800" cy="1876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ll Mini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19520" y="698400"/>
            <a:ext cx="5638680" cy="5027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 give up for smaller siz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a CDROM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install your progra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nning Linux or Windows X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Syste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XP should have 1 gig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all Amount of Physical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Screen (less than 14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aller Keyboard and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reduced or ergonomically designed for k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4960" y="61718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R &amp; A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0080" cy="26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8877240" cy="2781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SI &amp; SYLV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280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TL &amp; INTEL CLASS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8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TL and a few others are based o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 CLASS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ptop which competes with the X0 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65628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PC TXT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201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ew of 4 mini-note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ShockwaveFlash1"/>
          <p:cNvGraphicFramePr/>
          <p:nvPr/>
        </p:nvGraphicFramePr>
        <p:xfrm>
          <a:off x="1371600" y="1447920"/>
          <a:ext cx="6400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–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now what you want to use it for and how much you're willing to sp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 a netbook with an 8.9-inch screen or lar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ried out an Asus EEC PC with a 7-inch screen and the annoying part is not being able to see an entire Web page because the screen is too sm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pcworld.com/businesscenter/article/150457/how_to_buy_a_minilaptop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d Tech Projec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started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IT (The Massachusetts Institute of Technology) announced plans to develop a $100 laptop around 2003 with a prototype released in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these laptops were nam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uters and in 2007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 million un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distributed to developing n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tbook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the latest name for these mini-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US EEC P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324480" cy="5772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6019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48520" y="1981080"/>
            <a:ext cx="238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" scre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ke sure you get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6-cell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battery for your netbook, although you may have to pay $50 more and the device will weigh mo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panies are offering netbooks with 3-cell batteries as the standard, but that doesn't offer a whole lot of run time, j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to 3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cell battery doubles that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ome devices designed around a 6-cell battery you can get up to 8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ry out the keypad and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sur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it's right for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on the ClassMate PC's keyboard are raised and there is a lot of space between them, making them easy to find by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contrast, the EEE PCs, Wind and Elitegroup Computer Systems' designed their keypads with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at keys and little or no space between keys because, I was told it makes them look n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ouble is, it also makes typing more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ally liked the keypads on Acer's and Everex's CloudBook, but the best keypad was on Hewlett-Packard'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ex Cloud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846440"/>
            <a:ext cx="9144000" cy="4659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429000" y="426672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5. Software: see what it comes with and consider trying the Linux 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two lessons on softwa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, some vendors have skimped on including software in their netbooks on the pretense that users can download a lot of free software on the Interne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ustek included a lot of useful software on its Eee PCs 1000, 1000H and 901, as has Acer, which also added a nice opening screen that boots up in just 12 second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ond, it may be time to the give the Linux OS a 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netbooks I tested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 OSs booted up far faster than Windo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P or Windows Vista (I would not buy a netbook with Vista, it's just too slow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ic Tip- if windows XP needs 1 gig of memory then Vista needs 2 gigs of system memory to perform well with average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World How to buy a Mini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rice: if it costs more than $500, start looking at a regular notebook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ies have started promoting a wide range of netbooks at higher prices, but once you pass $500, netbooks start to compete with laptop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5867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”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Image Preview"/>
          <p:cNvPicPr/>
          <p:nvPr/>
        </p:nvPicPr>
        <p:blipFill>
          <a:blip r:embed="rId2"/>
          <a:stretch/>
        </p:blipFill>
        <p:spPr>
          <a:xfrm>
            <a:off x="4952880" y="4572000"/>
            <a:ext cx="1981440" cy="194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712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”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mb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GB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 to 3 MP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3 MP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336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3886200"/>
            <a:ext cx="8534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ateway M series Laptop has 3gigs of system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ilt in camera, a newer, faster DUO CORE processor, large hard drive, CDROM drive, More usb ports, a digital camera reader, more software and has a great design –one of the view models that forces warm air out the side instead of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find it for as low as $499 on s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teway M 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EFORE YOU BU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nning Rub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nee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mall size may work for elementary and middle but high school kids may need a larger keyboard and more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limited memory and storage could be a problem 1-3 years down the road when some great software appears that you cannot run because of space and memory requir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19920" y="990720"/>
            <a:ext cx="2514600" cy="2241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.jaras@iowa.gov   (ema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3352680"/>
            <a:ext cx="60195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O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olpc"/>
          <p:cNvPicPr/>
          <p:nvPr/>
        </p:nvPicPr>
        <p:blipFill>
          <a:blip r:embed="rId1"/>
          <a:stretch/>
        </p:blipFill>
        <p:spPr>
          <a:xfrm>
            <a:off x="0" y="685800"/>
            <a:ext cx="499572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Image:P1020377-1.JPG">
            <a:hlinkClick r:id="rId2"/>
          </p:cNvPr>
          <p:cNvPicPr/>
          <p:nvPr/>
        </p:nvPicPr>
        <p:blipFill>
          <a:blip r:embed="rId3"/>
          <a:srcRect l="13890" t="0" r="8334" b="0"/>
          <a:stretch/>
        </p:blipFill>
        <p:spPr>
          <a:xfrm>
            <a:off x="5105520" y="68580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ren from Mongolia, Ch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1371600" y="1523880"/>
          <a:ext cx="63993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399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248520" cy="557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ovations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FLASH drives to replace hard dr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-in web cam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for Kids, not Ad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PEN SOURC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ovations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Bricklin (who invented the spreadsheet) has developed a web-based spreadsheet called social-calc for the X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Photo of SocialCalc on an XO-1"/>
          <p:cNvPicPr/>
          <p:nvPr/>
        </p:nvPicPr>
        <p:blipFill>
          <a:blip r:embed="rId1"/>
          <a:srcRect l="0" t="4078" r="0" b="14288"/>
          <a:stretch/>
        </p:blipFill>
        <p:spPr>
          <a:xfrm>
            <a:off x="2819520" y="2743200"/>
            <a:ext cx="5676840" cy="363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6400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peapodcast.com/sgi/olp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in Nep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IMG_2596 by tiezemans."/>
          <p:cNvPicPr/>
          <p:nvPr/>
        </p:nvPicPr>
        <p:blipFill>
          <a:blip r:embed="rId1"/>
          <a:srcRect l="0" t="8050" r="0" b="0"/>
          <a:stretch/>
        </p:blipFill>
        <p:spPr>
          <a:xfrm>
            <a:off x="1219320" y="1708200"/>
            <a:ext cx="74674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248520" cy="5570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novations of the X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May 21, 2008, at an OLPC Country Meeting, design studies of a next-generation XO-2 goals inclu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16x9 proportioned sunlight-readable touch scre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 and touchpad both replaced by touch scre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ly smaller than XO-1; size and weight more like a b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watt power 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of US $75 to large educational buy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Image:P1020089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ildre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 Mongo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36:57Z</dcterms:created>
  <dc:creator>Vic</dc:creator>
  <dc:description/>
  <dc:language>en-US</dc:language>
  <cp:lastModifiedBy>Vic</cp:lastModifiedBy>
  <dcterms:modified xsi:type="dcterms:W3CDTF">2008-10-02T11:15:21Z</dcterms:modified>
  <cp:revision>28</cp:revision>
  <dc:subject/>
  <dc:title>Mini Laptop Computers</dc:title>
</cp:coreProperties>
</file>